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275-CF8D-4C97-82D7-8D150462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228-9A40-46EC-AE89-F0CF2C5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220-CFEF-42E9-9E25-C67D46C9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C72-F6AA-40CD-A3B8-D1E8123E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058C-1AB9-4B05-8757-FE07D5D1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C71C-8D49-420E-ABE8-7FF7F032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ED50-F45C-43FC-AE8A-9E4A2A92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CAEC-0AD2-4775-A20C-D3BE5593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1856-86F0-4120-B307-FB4006AD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FA9E-5A56-4C93-937C-019796CA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1FFA-45D5-431B-8172-0E32FC98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82E-282E-4B3C-8C5F-07637DB8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7800-41CD-4B29-8652-5B197B2D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A369-FFA5-4559-8CDD-E60491F5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3255-E8AD-408A-A5E7-56A59BEC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0AB8-21BD-4FAD-87A3-422BB634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3E6C-2ADF-4F42-8624-B4368BE3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8813-DBC9-4AF8-BFE5-004069F2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666B-5C49-4E57-A7F2-9CE371C6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0CDA-F6E7-4950-A9C5-9497399F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37C4-8B36-434A-BA27-C901F9BD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B5E8-C342-4B6D-9A82-C14C4A76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9FC-C4BF-4963-9E6A-94C08488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2C37-13D8-43C3-8F0B-1A62FDD7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BB4C-84BF-44EA-B159-981EAA94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EF29-4451-4F05-8E71-7A0D462D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7AD1-0418-4112-A16C-DA510E2D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C5D5-C4AB-46E2-9215-D7AFB827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D03E-D6C0-46B9-9B2E-F09BA9C6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408D-FB45-429A-933E-B37E6433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AFC0-7AF1-4A80-ACFA-9FBF203F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89D5-36D0-40A0-B2EF-2C3FBE5C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A597B-0ACF-4B7D-8A0E-06018266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ACC-25B3-443E-A1FD-F8C085DE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01D5C-03FC-4548-806C-0407A80C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CC91-3F58-4DFC-8D7C-6ED178DD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D1A95-5069-4B20-AD8A-8174B8A2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D011-293D-48F4-8DDB-11343FCD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7D9B8-AE3C-4E2C-A54A-FE16D097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1017-860D-4EEB-9B25-082E0071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F8AC6-85CD-42EA-9820-601ECD13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0BBE-BA46-49B9-919F-29DE9DFD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19C5E-D783-49FB-BF1C-0D2F9271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BA7-15A4-432D-B926-4C599E44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475-75B3-4BD0-AFED-92DB863A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183-F06A-46A1-8797-B715C588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EA2-D5AD-437A-B338-C5F7E9E1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4C5-0D94-4417-8BCD-D7543517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D2C0-5A8D-44D5-9303-72853AE9A77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CCE2-F2D4-4621-ACA2-5868BFADB55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C0C4-686E-4C61-8F2D-E23F4985D25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57A5-3E53-4156-95D6-7824F6AC7DD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dbf5f9"/>
                </a:solidFill>
                <a:latin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G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s://www.youtube.com/watch?v=TNKWgcFPHqwhttps://www.youtube.com/watch?v=TNKWgcFPHq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21-11-15T15:16:37Z</dcterms:modified>
  <cp:revision>101</cp:revision>
  <dc:subject/>
  <dc:title>2-Humani genom</dc:title>
</cp:coreProperties>
</file>